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C45E-FA43-4092-B31D-2476CC59B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75D9-EF1D-4CE5-8623-DD2D48FA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2142-6894-403A-8EB0-24EC611E9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7B6B-DCB1-42F2-BEA7-DC28FC9FE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19EB-87F6-4956-B83D-934BCB6A3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3483-690F-42E3-B058-E950F4E2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8F8D-6BEA-4352-BA17-7DEEB9DD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8F82-B93A-494F-810E-346642BC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82DC-4E92-4CC8-BD9B-A9C45DF0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5076-554A-437E-B5A3-0CB228EC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98E4-15D9-4286-BC7E-D469E7A2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A0E5-CEC9-4D18-A682-AF5481FB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0386-228C-460E-A04E-9D77C896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16B7-AE41-44B0-81F9-DFD11F6B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73E4-B4CB-46C7-9665-5C292F3C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1759-D6A7-44C9-866B-FFEFB2D39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647C-B347-4198-B466-605D33A33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C0991-B1EB-4E90-A2FF-CF2348FF2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CE781-717A-4B8F-BF47-DA568E7A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8128D-A66C-4926-AA98-83314DCC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D82CA-A360-48F6-905E-E68A5077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89CA8-9195-475C-B142-CD24DB4A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5281-4091-4D83-966B-B548BF37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AAFAF-56E4-4842-9461-60E325E7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FAD94-9ED0-4EB9-9FDF-E04EE34C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DB864-3F7C-4376-B201-17A2BBFE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AF1F0-FB75-4692-9FF8-21E1B92E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9EFC0-2C9A-420B-B405-109E7BB7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53B7F-CE12-4A0D-8D98-C4FAE01C1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2CD85-CCE7-459A-9D8D-95685CDE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1EC01-63F1-42CC-81B9-B037F1071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625A3-D222-4D1C-A26C-3DCC7A63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1A4E4-4CF7-40CD-9EBF-02D94B15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B0FA-AFC6-4818-9F4F-0D99F1BC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2994E-EEAB-4FC8-A91C-0A665B22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C2CEB-2C28-48D4-893D-1DDFFF0F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43ADA-7445-49BB-BB31-E7C09268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BB0B3-71D5-4FC9-86E7-E391ADC9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E48EF-6416-4234-899E-D5E8A5BB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275B8-BFBC-47BE-8B2E-C4A18C4E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60DDB-6D70-48AC-B30D-218D010D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6434E-8334-46C3-B430-F95084EBD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7C37A-9B9E-464C-8FDD-4E430DA1F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F9AD-6BC5-4FB6-A02F-49FC0F13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6885-9FEB-48C0-8D61-8CAE271C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C15C-92D1-4E17-8ED2-855DAAB9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7051-A569-49F2-9276-537C1E91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8E8A-330F-4B2E-8FAA-2F47B368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EA25-E268-4E64-B899-C3DA9C1857E0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1D2A-4F46-4141-B8F2-D434B40964FF}" type="slidenum">
              <a:rPr b="0" lang="en-A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D56A-37DE-4502-9C0B-909E2F7AF100}" type="slidenum">
              <a:rPr b="0" lang="en-A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AD6F-6889-4BE2-8377-E1B83B3F6872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62160"/>
            <a:ext cx="8663040" cy="20304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ANALYSI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Constantia"/>
              </a:rPr>
              <a:t>2010 Data to help prepare our students for 2011 and beyond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TextBox 3"/>
          <p:cNvSpPr/>
          <p:nvPr/>
        </p:nvSpPr>
        <p:spPr>
          <a:xfrm>
            <a:off x="714240" y="5000760"/>
            <a:ext cx="764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e work together with a common focus to extend our professional capacity ...  </a:t>
            </a: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student outcomes will be im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20" name="TextBox 2"/>
          <p:cNvSpPr/>
          <p:nvPr/>
        </p:nvSpPr>
        <p:spPr>
          <a:xfrm>
            <a:off x="571680" y="2500200"/>
            <a:ext cx="692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pend  5 minutes having a look and discussing the information displayed on the other three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500" spc="-1" strike="noStrike">
                <a:solidFill>
                  <a:srgbClr val="04617b"/>
                </a:solidFill>
                <a:latin typeface="Calibri"/>
              </a:rPr>
              <a:t>Act 4: DATA TABL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00040" y="99972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nstantia"/>
              </a:rPr>
              <a:t>Record the amount in each group for each strand and record the actual question numbers for  the BELOW section in the table provided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285840" y="2071800"/>
            <a:ext cx="85723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Conclu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What concepts are we teaching well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From the information in front of you what are 3 specific areas/skills where we could target upcoming professional learning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PLT OBJECTIV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2142720"/>
            <a:ext cx="822960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d0d0d"/>
                </a:solidFill>
                <a:latin typeface="Constantia"/>
              </a:rPr>
              <a:t>For </a:t>
            </a:r>
            <a:r>
              <a:rPr b="1" lang="en-AU" sz="3000" spc="-1" strike="noStrike">
                <a:solidFill>
                  <a:srgbClr val="0d0d0d"/>
                </a:solidFill>
                <a:latin typeface="Constantia"/>
              </a:rPr>
              <a:t>EVERYONE</a:t>
            </a:r>
            <a:r>
              <a:rPr b="0" lang="en-AU" sz="3000" spc="-1" strike="noStrike">
                <a:solidFill>
                  <a:srgbClr val="0d0d0d"/>
                </a:solidFill>
                <a:latin typeface="Constantia"/>
              </a:rPr>
              <a:t> to  take responsibility for our results 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d0d0d"/>
                </a:solidFill>
                <a:latin typeface="Constantia"/>
              </a:rPr>
              <a:t>To find out </a:t>
            </a:r>
            <a:r>
              <a:rPr b="1" lang="en-AU" sz="3000" spc="-1" strike="noStrike">
                <a:solidFill>
                  <a:srgbClr val="0d0d0d"/>
                </a:solidFill>
                <a:latin typeface="Constantia"/>
              </a:rPr>
              <a:t>strengths</a:t>
            </a:r>
            <a:r>
              <a:rPr b="0" lang="en-AU" sz="3000" spc="-1" strike="noStrike">
                <a:solidFill>
                  <a:srgbClr val="0d0d0d"/>
                </a:solidFill>
                <a:latin typeface="Constantia"/>
              </a:rPr>
              <a:t> and </a:t>
            </a:r>
            <a:r>
              <a:rPr b="1" lang="en-AU" sz="3000" spc="-1" strike="noStrike">
                <a:solidFill>
                  <a:srgbClr val="0d0d0d"/>
                </a:solidFill>
                <a:latin typeface="Constantia"/>
              </a:rPr>
              <a:t>weaknesses</a:t>
            </a:r>
            <a:r>
              <a:rPr b="0" lang="en-AU" sz="3000" spc="-1" strike="noStrike">
                <a:solidFill>
                  <a:srgbClr val="0d0d0d"/>
                </a:solidFill>
                <a:latin typeface="Constantia"/>
              </a:rPr>
              <a:t> of our curriculum delivery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d0d0d"/>
                </a:solidFill>
                <a:latin typeface="Constantia"/>
              </a:rPr>
              <a:t>To use NAPLAN data to inform our </a:t>
            </a:r>
            <a:r>
              <a:rPr b="1" lang="en-AU" sz="3000" spc="-1" strike="noStrike">
                <a:solidFill>
                  <a:srgbClr val="0d0d0d"/>
                </a:solidFill>
                <a:latin typeface="Constantia"/>
              </a:rPr>
              <a:t>future teaching</a:t>
            </a:r>
            <a:r>
              <a:rPr b="0" lang="en-AU" sz="3000" spc="-1" strike="noStrike">
                <a:solidFill>
                  <a:srgbClr val="0d0d0d"/>
                </a:solidFill>
                <a:latin typeface="Constantia"/>
              </a:rPr>
              <a:t> and </a:t>
            </a:r>
            <a:r>
              <a:rPr b="1" lang="en-AU" sz="3000" spc="-1" strike="noStrike">
                <a:solidFill>
                  <a:srgbClr val="0d0d0d"/>
                </a:solidFill>
                <a:latin typeface="Constantia"/>
              </a:rPr>
              <a:t>professional learning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01" name="TextBox 2"/>
          <p:cNvSpPr/>
          <p:nvPr/>
        </p:nvSpPr>
        <p:spPr>
          <a:xfrm>
            <a:off x="1214280" y="1714680"/>
            <a:ext cx="600084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 your groups you will ne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2 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2 Pairs of scis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 Test booklet (Gr 3 or Gr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 Item Analysis (Gr 3 or Gr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 Data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2 Strea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 Summary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"/>
          <p:cNvSpPr/>
          <p:nvPr/>
        </p:nvSpPr>
        <p:spPr>
          <a:xfrm>
            <a:off x="2143080" y="1461240"/>
            <a:ext cx="44290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A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tem Analysis Report</a:t>
            </a:r>
            <a:br>
              <a:rPr sz="1200"/>
            </a:b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ational Assessment Program - Literacy and Numeracy Tests 2009</a:t>
            </a:r>
            <a:br>
              <a:rPr sz="1200"/>
            </a:b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Year 3, Group: ALL, Class: Al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Date: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AU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12/04/2010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AU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Time: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AU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9:03:29 AM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6"/>
          <p:cNvSpPr/>
          <p:nvPr/>
        </p:nvSpPr>
        <p:spPr>
          <a:xfrm>
            <a:off x="714240" y="6072120"/>
            <a:ext cx="785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sing the Item Analysis Report  transfer the data for each question to look like the example give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928800" y="2571840"/>
            <a:ext cx="72482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Content Placeholder 3" descr="Naplan Pres.jpg"/>
          <p:cNvPicPr/>
          <p:nvPr/>
        </p:nvPicPr>
        <p:blipFill>
          <a:blip r:embed="rId1"/>
          <a:stretch/>
        </p:blipFill>
        <p:spPr>
          <a:xfrm>
            <a:off x="214200" y="474840"/>
            <a:ext cx="8572680" cy="61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5796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8151840" cy="3267000"/>
          </a:xfrm>
          <a:prstGeom prst="rect">
            <a:avLst/>
          </a:prstGeom>
          <a:ln w="0">
            <a:noFill/>
          </a:ln>
        </p:spPr>
      </p:pic>
      <p:pic>
        <p:nvPicPr>
          <p:cNvPr id="210" name="Content Placeholder 3" descr="Naplan Pres.jpg"/>
          <p:cNvPicPr/>
          <p:nvPr/>
        </p:nvPicPr>
        <p:blipFill>
          <a:blip r:embed="rId2"/>
          <a:stretch/>
        </p:blipFill>
        <p:spPr>
          <a:xfrm>
            <a:off x="428760" y="3500280"/>
            <a:ext cx="821520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REMIND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No cutting the individual test pag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You must keep all info inside the lines of each ques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Act 2: SORT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5000"/>
            <a:ext cx="822960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Cut out each question and sort into dimension and order them according to the difference between the state and schoo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500040" y="3571920"/>
            <a:ext cx="785808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0000"/>
                </a:solidFill>
                <a:latin typeface="Arial"/>
              </a:rPr>
              <a:t>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What can be determined by these rankings? (Positives.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What are the implications for classroom teach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What are the implications for curriculum plann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4"/>
          <p:cNvSpPr/>
          <p:nvPr/>
        </p:nvSpPr>
        <p:spPr>
          <a:xfrm>
            <a:off x="571680" y="5786280"/>
            <a:ext cx="778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iscuss in your group / sh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18" name="TextBox 3"/>
          <p:cNvSpPr/>
          <p:nvPr/>
        </p:nvSpPr>
        <p:spPr>
          <a:xfrm>
            <a:off x="500040" y="2071800"/>
            <a:ext cx="8143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se the two streamers provided to sort into 3 groups while still keeping in particular dimen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f6fc6"/>
                </a:solidFill>
                <a:latin typeface="Arial"/>
              </a:rPr>
              <a:t>Items which the school were above the state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f6fc6"/>
                </a:solidFill>
                <a:latin typeface="Arial"/>
              </a:rPr>
              <a:t>Items which the school was similar to the state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f6fc6"/>
                </a:solidFill>
                <a:latin typeface="Arial"/>
              </a:rPr>
              <a:t>Items which the school was below the stat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Your parameters can change for this.  We only want a couple above and below  so it is arbitr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0:58:11Z</dcterms:created>
  <dc:creator>Warwick Knuckey</dc:creator>
  <dc:description/>
  <dc:language>en-US</dc:language>
  <cp:lastModifiedBy>Warwick Knuckey</cp:lastModifiedBy>
  <dcterms:modified xsi:type="dcterms:W3CDTF">2010-11-08T04:05:25Z</dcterms:modified>
  <cp:revision>66</cp:revision>
  <dc:subject/>
  <dc:title>NAPLAN</dc:title>
</cp:coreProperties>
</file>